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jpeg" ContentType="image/jpeg"/>
  <Override PartName="/ppt/media/image21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16.png" ContentType="image/png"/>
  <Override PartName="/ppt/media/image49.jpeg" ContentType="image/jpeg"/>
  <Override PartName="/ppt/media/image13.gif" ContentType="image/gif"/>
  <Override PartName="/ppt/media/image48.jpeg" ContentType="image/jpeg"/>
  <Override PartName="/ppt/media/image33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50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1.png" ContentType="image/png"/>
  <Override PartName="/ppt/media/image47.jpeg" ContentType="image/jpeg"/>
  <Override PartName="/ppt/media/image45.jpeg" ContentType="image/jpeg"/>
  <Override PartName="/ppt/media/image53.jpeg" ContentType="image/jpeg"/>
  <Override PartName="/ppt/media/image32.jpeg" ContentType="image/jpeg"/>
  <Override PartName="/ppt/media/image5.jpeg" ContentType="image/jpeg"/>
  <Override PartName="/ppt/media/image54.jpeg" ContentType="image/jpeg"/>
  <Override PartName="/ppt/media/image30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20.png" ContentType="image/png"/>
  <Override PartName="/ppt/media/image36.jpeg" ContentType="image/jpeg"/>
  <Override PartName="/ppt/media/image28.jpeg" ContentType="image/jpeg"/>
  <Override PartName="/ppt/media/image5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FCD-97D0-4653-B55A-F3E5983B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C19-F8E2-44C1-AE80-9A604A03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DED-7F32-4B79-93B9-3D873604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14E-0B61-4DC8-B03E-48EB01B4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F52C-E252-424C-995C-DAD007AD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46E3-B445-432F-8B0A-542C029C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8618-944B-4FA8-86F9-B192E8A0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9C90-D376-46A2-B91E-477D952B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4B33-DC71-4491-82EA-E56A9559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D490-2DF4-45A8-8510-DD59EF4D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0292-EFDD-4D1A-B03D-C779767B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D53-10E4-44CC-821C-F28599D5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0024-FF39-4038-B5D9-340C87AB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F1E0-35F4-41A0-8365-06F453E6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4989-9F9E-4899-9F73-AC15FC80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10CB-A9A3-4456-9E86-3EC78D18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6DF7-9883-41BB-A1CE-C8561427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04A-03B9-45E5-8642-4C2051F1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CC87-6815-4184-9108-175771DB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19E-8578-471C-86E6-534518E9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98F-1614-4CE2-95D9-959C315F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0CC-5222-4F1A-A319-6F44CB85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747-F76C-40A4-96A9-37E3D7FC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00FA-0AA7-4EBF-8445-7E3D355B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DBD5-F26E-4EC7-BCE3-8B545A088CC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943D-88A9-49CF-A666-8C94967F37E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Comic Sans MS"/>
              </a:rPr>
              <a:t>CHEMIST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matter" descr=""/>
          <p:cNvPicPr/>
          <p:nvPr/>
        </p:nvPicPr>
        <p:blipFill>
          <a:blip r:embed="rId1"/>
          <a:stretch/>
        </p:blipFill>
        <p:spPr>
          <a:xfrm>
            <a:off x="2390760" y="2971800"/>
            <a:ext cx="4362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The Electron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Negatively charged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high energy particles with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little or no mas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Travel at very high speed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at various distance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(energy levels)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from the nucle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lithium" descr=""/>
          <p:cNvPicPr/>
          <p:nvPr/>
        </p:nvPicPr>
        <p:blipFill>
          <a:blip r:embed="rId1"/>
          <a:stretch/>
        </p:blipFill>
        <p:spPr>
          <a:xfrm>
            <a:off x="3286080" y="4038480"/>
            <a:ext cx="25718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2-3" descr=""/>
          <p:cNvPicPr/>
          <p:nvPr/>
        </p:nvPicPr>
        <p:blipFill>
          <a:blip r:embed="rId1"/>
          <a:stretch/>
        </p:blipFill>
        <p:spPr>
          <a:xfrm>
            <a:off x="1828800" y="4572000"/>
            <a:ext cx="6534000" cy="13478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lectrons in the same energy level are approximately the same distance from the nucle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Outer energy levels have more energy than inner level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ach level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holds only a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certain number of electr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Comic Sans MS"/>
              </a:rPr>
              <a:t>Periodic Tabl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Elements are arranged by their atomic number on the 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Periodic Tab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The horizontal rows are called 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Periods &amp; tell the number of energy leve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Vertical groups are called 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Families &amp; tell the outermost number of electr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57480" y="685800"/>
            <a:ext cx="720072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4086360" cy="3324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Compound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89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ost elements do not exist by themselv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Readily combine with other element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in a predictable fash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50292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compound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is a pure substanc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made up of atoms of two or more elemen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proportion of atoms are always fix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Chemical formula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shows the kind and proportion of atoms of each element that occurs in a particular compou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water molecule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7144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molecules-air" descr=""/>
          <p:cNvPicPr/>
          <p:nvPr/>
        </p:nvPicPr>
        <p:blipFill>
          <a:blip r:embed="rId1"/>
          <a:stretch/>
        </p:blipFill>
        <p:spPr>
          <a:xfrm>
            <a:off x="4305240" y="1981080"/>
            <a:ext cx="4838760" cy="3907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373392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Molecule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are the simplest part of a substance that retains all of the properties of the substance and exists in a free sta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Some molecules ar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large and comple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Comic Sans MS"/>
              </a:rPr>
              <a:t>Chemical Formula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101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Subscript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after a symbol tell the number of atoms of each ele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af2d2d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0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has 2 atoms of hydrogen &amp; 1 atom of oxyg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Coefficient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before a formula tell the number of molecu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3O</a:t>
            </a:r>
            <a:r>
              <a:rPr b="1" lang="en-US" sz="3200" spc="-1" strike="noStrike" baseline="-25000">
                <a:solidFill>
                  <a:srgbClr val="af2d2d"/>
                </a:solidFill>
                <a:latin typeface="Comic Sans MS"/>
              </a:rPr>
              <a:t>2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represents 3 molecules of oxygen or (3x2) or 6 atoms of oxyg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molecules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062240" cy="3247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3200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hysical and chemical propertie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of a compound differ from the physical and chemical properties of the individual elements that compose i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lanetary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528720" cy="3520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tendency of elements to combine and form compounds depends on the number and arrangement of electrons in their outermost energy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toms are most stable when their outer most energy level is filled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mass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3505320" cy="2082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Composition of Matte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548640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Matte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- Everything in universe is composed of mat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atter is anything that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occupies space or has mas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274040" indent="-21240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Mas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– quantity of matter an object h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274040" indent="-21240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Weight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– pull of gravity on an objec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volume" descr=""/>
          <p:cNvPicPr/>
          <p:nvPr/>
        </p:nvPicPr>
        <p:blipFill>
          <a:blip r:embed="rId2"/>
          <a:stretch/>
        </p:blipFill>
        <p:spPr>
          <a:xfrm>
            <a:off x="6781680" y="1828800"/>
            <a:ext cx="16588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roperties of compounds" descr=""/>
          <p:cNvPicPr/>
          <p:nvPr/>
        </p:nvPicPr>
        <p:blipFill>
          <a:blip r:embed="rId1"/>
          <a:stretch/>
        </p:blipFill>
        <p:spPr>
          <a:xfrm>
            <a:off x="4838760" y="2133720"/>
            <a:ext cx="4305240" cy="3333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52578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ost atoms are not stable in their natural sta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Tend to react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(combine) with other atoms in order to become more stable (undergo chemical reaction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In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chemical reaction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bonds are broken; atoms rearranged and new chemical bonds are formed that stor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ner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valent bond water" descr=""/>
          <p:cNvPicPr/>
          <p:nvPr/>
        </p:nvPicPr>
        <p:blipFill>
          <a:blip r:embed="rId1"/>
          <a:stretch/>
        </p:blipFill>
        <p:spPr>
          <a:xfrm>
            <a:off x="2548080" y="3200400"/>
            <a:ext cx="4047840" cy="3333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Covalent Bond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Formed when two atom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hare one or more pairs of electr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Ionic Bond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Some atoms become stable by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losing or gaining electr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toms that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lose electron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are call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ositive 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3" name="ionic bond nacl 1" descr=""/>
          <p:cNvPicPr/>
          <p:nvPr/>
        </p:nvPicPr>
        <p:blipFill>
          <a:blip r:embed="rId1"/>
          <a:stretch/>
        </p:blipFill>
        <p:spPr>
          <a:xfrm>
            <a:off x="2562120" y="3962520"/>
            <a:ext cx="4019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toms that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gain electron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are call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negative 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Becaus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ositive and negative electrical charges attract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each other ionic bonds for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ionic bonds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701964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Energy and Matte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Energy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f2d2d"/>
                </a:solidFill>
                <a:latin typeface="Comic Sans MS"/>
              </a:rPr>
              <a:t>ability to do work</a:t>
            </a: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 or cause chang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Occurs in </a:t>
            </a:r>
            <a:r>
              <a:rPr b="1" lang="en-US" sz="2400" spc="-1" strike="noStrike">
                <a:solidFill>
                  <a:srgbClr val="af2d2d"/>
                </a:solidFill>
                <a:latin typeface="Comic Sans MS"/>
              </a:rPr>
              <a:t>various form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d2d"/>
                </a:solidFill>
                <a:latin typeface="Comic Sans MS"/>
              </a:rPr>
              <a:t>Can be converted</a:t>
            </a: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 to another fo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Forms important to biological systems are </a:t>
            </a:r>
            <a:r>
              <a:rPr b="1" lang="en-US" sz="2400" spc="-1" strike="noStrike">
                <a:solidFill>
                  <a:srgbClr val="af2d2d"/>
                </a:solidFill>
                <a:latin typeface="Comic Sans MS"/>
              </a:rPr>
              <a:t>chemical, thermal, electrical and mechanical energ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d2d"/>
                </a:solidFill>
                <a:latin typeface="Comic Sans MS"/>
              </a:rPr>
              <a:t>Free energy</a:t>
            </a: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 is the energy in a system that is available for wor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lightbulb_cartoon" descr=""/>
          <p:cNvPicPr/>
          <p:nvPr/>
        </p:nvPicPr>
        <p:blipFill>
          <a:blip r:embed="rId1"/>
          <a:stretch/>
        </p:blipFill>
        <p:spPr>
          <a:xfrm>
            <a:off x="6477120" y="1752480"/>
            <a:ext cx="213336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tatesofmatter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4572000" cy="29606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States of Matte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toms are in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constant mo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rate at which atoms or molecules in a substance move determines it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ta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Solid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olecules tightly linked together in a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definite shap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Vibrate in pl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Fixed volume and shap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3" name="an02097_" descr=""/>
          <p:cNvPicPr/>
          <p:nvPr/>
        </p:nvPicPr>
        <p:blipFill>
          <a:blip r:embed="rId1"/>
          <a:stretch/>
        </p:blipFill>
        <p:spPr>
          <a:xfrm>
            <a:off x="6019920" y="3276720"/>
            <a:ext cx="2509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01064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Liquid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olecule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not as tightly linked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as a soli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aintain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fixed volu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ble to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flow and conform to shape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of contain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glassware-red-and-blue-liquids-AHD" descr=""/>
          <p:cNvPicPr/>
          <p:nvPr/>
        </p:nvPicPr>
        <p:blipFill>
          <a:blip r:embed="rId1"/>
          <a:stretch/>
        </p:blipFill>
        <p:spPr>
          <a:xfrm>
            <a:off x="5181480" y="3962520"/>
            <a:ext cx="32767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6248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1098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G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097280" indent="330480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Molecules have 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little or no attraction to each oth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097280" indent="330480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Fill the volume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of the occupied contai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097280" indent="330480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Move most rapid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To cause a substance to change state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, thermal energy 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(heat)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must be added to or removed from a subst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7" name="gas" descr=""/>
          <p:cNvPicPr/>
          <p:nvPr/>
        </p:nvPicPr>
        <p:blipFill>
          <a:blip r:embed="rId1"/>
          <a:stretch/>
        </p:blipFill>
        <p:spPr>
          <a:xfrm>
            <a:off x="6858000" y="2514600"/>
            <a:ext cx="1878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Energy and Chemical Reaction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Living things undergo 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thousands of chemical reaction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as part of the life proces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0" name="chem_reaction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08628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eriodic table" descr=""/>
          <p:cNvPicPr/>
          <p:nvPr/>
        </p:nvPicPr>
        <p:blipFill>
          <a:blip r:embed="rId1"/>
          <a:stretch/>
        </p:blipFill>
        <p:spPr>
          <a:xfrm>
            <a:off x="2971800" y="3421080"/>
            <a:ext cx="5452920" cy="3436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Element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ure substance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that cannot be broken down chemically into simpler kinds of matter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ore than 100 element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(92 naturally occurring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5486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any are very complex involving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multistep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sequences call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biochemical pathway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Chemical equation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represent chemical reac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Reactants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re shown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 on the left side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f the equ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roducts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re shown on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 the right sid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2" name="IntermediaryMet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3581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he number of each kind of atom must be the same on either side of the arrow 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(equation must be balanced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Bond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may be broken or made forming new compoun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4" name="formation of hydronium ions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3838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Energy Transfe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510552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uch of the energy organisms need is provided by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ugar (food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Undergoes a series of chemical reactions in which energy is releas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(cell respiration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net release of free energy is called an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xergonic (exothermic) rea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7" name="exergonic reaction" descr=""/>
          <p:cNvPicPr/>
          <p:nvPr/>
        </p:nvPicPr>
        <p:blipFill>
          <a:blip r:embed="rId1"/>
          <a:stretch/>
        </p:blipFill>
        <p:spPr>
          <a:xfrm>
            <a:off x="5715000" y="2895480"/>
            <a:ext cx="319104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914400"/>
            <a:ext cx="464796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Reactions that involve a net absorption of free energy are call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ndergonic (endothermic) reac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hotosynthesi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is an exam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Most reactions in living organisms are endergonic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; therefore living organisms require a constant source of ener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9" name="endergonic reaction" descr=""/>
          <p:cNvPicPr/>
          <p:nvPr/>
        </p:nvPicPr>
        <p:blipFill>
          <a:blip r:embed="rId1"/>
          <a:stretch/>
        </p:blipFill>
        <p:spPr>
          <a:xfrm>
            <a:off x="5105520" y="1895400"/>
            <a:ext cx="36288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ost chemical reaction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require energy to begi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amount of energy needed to start the reaction is call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ctivation ener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1" name="exothermic energy" descr=""/>
          <p:cNvPicPr/>
          <p:nvPr/>
        </p:nvPicPr>
        <p:blipFill>
          <a:blip r:embed="rId1"/>
          <a:stretch/>
        </p:blipFill>
        <p:spPr>
          <a:xfrm>
            <a:off x="5105520" y="3200400"/>
            <a:ext cx="3762360" cy="3247920"/>
          </a:xfrm>
          <a:prstGeom prst="rect">
            <a:avLst/>
          </a:prstGeom>
          <a:ln w="0">
            <a:noFill/>
          </a:ln>
        </p:spPr>
      </p:pic>
      <p:pic>
        <p:nvPicPr>
          <p:cNvPr id="172" name="match - activation energy" descr=""/>
          <p:cNvPicPr/>
          <p:nvPr/>
        </p:nvPicPr>
        <p:blipFill>
          <a:blip r:embed="rId2"/>
          <a:stretch/>
        </p:blipFill>
        <p:spPr>
          <a:xfrm>
            <a:off x="1295280" y="3429000"/>
            <a:ext cx="30006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680" y="1142640"/>
            <a:ext cx="3200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ertain chemical substance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(catalysts)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reduce the amount of activation energy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requir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Biological catalysts are call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nzym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4" name="decomposition of H202  2" descr=""/>
          <p:cNvPicPr/>
          <p:nvPr/>
        </p:nvPicPr>
        <p:blipFill>
          <a:blip r:embed="rId1"/>
          <a:stretch/>
        </p:blipFill>
        <p:spPr>
          <a:xfrm>
            <a:off x="4572000" y="1943280"/>
            <a:ext cx="4048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nzyme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are an important class of catalysts in living organis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ostly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rotei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Thousand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of different kind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ach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pecific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for a different chemical rea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6" name="enzyme 2" descr=""/>
          <p:cNvPicPr/>
          <p:nvPr/>
        </p:nvPicPr>
        <p:blipFill>
          <a:blip r:embed="rId1"/>
          <a:stretch/>
        </p:blipFill>
        <p:spPr>
          <a:xfrm>
            <a:off x="2433600" y="4267080"/>
            <a:ext cx="42768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Comic Sans MS"/>
              </a:rPr>
              <a:t>Enzyme Stru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nzymes work on substances call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ubstrat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Substrates must fit into a place on an enzyme called 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ctive si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nzymes are reusable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3429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Reduction-Oxidation Reaction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any of the chemical reactions that help transfer energy in living organisms involve the transfer of electrons (reduction-oxidation =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redox reaction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2" name="redox" descr=""/>
          <p:cNvPicPr/>
          <p:nvPr/>
        </p:nvPicPr>
        <p:blipFill>
          <a:blip r:embed="rId1"/>
          <a:stretch/>
        </p:blipFill>
        <p:spPr>
          <a:xfrm>
            <a:off x="3200400" y="4084560"/>
            <a:ext cx="38098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Oxidation reaction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– reactant loses electron(s) becoming more positiv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4" name="oxidation of nacl" descr=""/>
          <p:cNvPicPr/>
          <p:nvPr/>
        </p:nvPicPr>
        <p:blipFill>
          <a:blip r:embed="rId1"/>
          <a:stretch/>
        </p:blipFill>
        <p:spPr>
          <a:xfrm>
            <a:off x="2340000" y="2514600"/>
            <a:ext cx="44625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533412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90% of the mass of an organism is composed of 4 element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(oxygen, carbon, hydrogen and nitrogen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ach element unique chemical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ymbo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onsists of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1-2 lett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First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letter is alway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capitaliz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2-1" descr=""/>
          <p:cNvPicPr/>
          <p:nvPr/>
        </p:nvPicPr>
        <p:blipFill>
          <a:blip r:embed="rId1"/>
          <a:stretch/>
        </p:blipFill>
        <p:spPr>
          <a:xfrm>
            <a:off x="6172200" y="2514600"/>
            <a:ext cx="2666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Reduction reaction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– reactant gains electron(s) becoming more negativ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6" name="reduction of cl ions" descr=""/>
          <p:cNvPicPr/>
          <p:nvPr/>
        </p:nvPicPr>
        <p:blipFill>
          <a:blip r:embed="rId1"/>
          <a:stretch/>
        </p:blipFill>
        <p:spPr>
          <a:xfrm>
            <a:off x="2030400" y="2514600"/>
            <a:ext cx="50817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3720" y="27428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a3d7a"/>
                </a:solidFill>
                <a:latin typeface="Comic Sans MS"/>
              </a:rPr>
              <a:t>Solutions</a:t>
            </a:r>
            <a:endParaRPr b="0" lang="en-US" sz="8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Solution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af2d2d"/>
                </a:solidFill>
                <a:latin typeface="Comic Sans MS"/>
              </a:rPr>
              <a:t>solution</a:t>
            </a: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 is a mixture in which 2 or more substances are </a:t>
            </a:r>
            <a:r>
              <a:rPr b="0" lang="en-US" sz="3200" spc="-1" strike="noStrike">
                <a:solidFill>
                  <a:srgbClr val="af2d2d"/>
                </a:solidFill>
                <a:latin typeface="Comic Sans MS"/>
              </a:rPr>
              <a:t>uniformly distributed</a:t>
            </a: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 in another subst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0" name="solutions" descr=""/>
          <p:cNvPicPr/>
          <p:nvPr/>
        </p:nvPicPr>
        <p:blipFill>
          <a:blip r:embed="rId1"/>
          <a:stretch/>
        </p:blipFill>
        <p:spPr>
          <a:xfrm>
            <a:off x="4572000" y="2514600"/>
            <a:ext cx="4114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salt water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267080" cy="33433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3962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olute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is the substance dissolved in the s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Particles may be ions, atoms, or molecu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olvent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is the substance in which the solute is dissolv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Water is the universal solv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990360" y="9907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Solutions can be composed of varying proportions of a given solute in a given solvent ---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vary in concentration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(measurement of the amount of solute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aturated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solution is one in which no more solute can be dissolv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queous solution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(water)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are universally important to living thing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4" name="company_02_img_01" descr=""/>
          <p:cNvPicPr/>
          <p:nvPr/>
        </p:nvPicPr>
        <p:blipFill>
          <a:blip r:embed="rId1"/>
          <a:stretch/>
        </p:blipFill>
        <p:spPr>
          <a:xfrm>
            <a:off x="6477120" y="2362320"/>
            <a:ext cx="24573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541008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Dissociation of wa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75600" indent="-4323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Breaking apart of the water molecule into two ions of opposite charge (due to strong attraction of oxygen atom of one molecule for H atom of another water molecule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75600" indent="-4323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9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H</a:t>
            </a:r>
            <a:r>
              <a:rPr b="1" lang="en-US" sz="2900" spc="-1" strike="noStrike" baseline="30000">
                <a:solidFill>
                  <a:srgbClr val="5b5249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(hydrogen ion) +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OH</a:t>
            </a:r>
            <a:r>
              <a:rPr b="1" lang="en-US" sz="2900" spc="-1" strike="noStrike" baseline="30000">
                <a:solidFill>
                  <a:srgbClr val="af2d2d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 (hydroxide ion)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75600" indent="-4323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900" spc="-1" strike="noStrike" baseline="30000">
                <a:solidFill>
                  <a:srgbClr val="5b5249"/>
                </a:solidFill>
                <a:latin typeface="Comic Sans MS"/>
              </a:rPr>
              <a:t>+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+</a:t>
            </a:r>
            <a:r>
              <a:rPr b="1" lang="en-US" sz="2900" spc="-1" strike="noStrike" baseline="30000">
                <a:solidFill>
                  <a:srgbClr val="5b5249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9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H</a:t>
            </a:r>
            <a:r>
              <a:rPr b="1" lang="en-US" sz="2900" spc="-1" strike="noStrike" baseline="-25000">
                <a:solidFill>
                  <a:srgbClr val="af2d2d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O (hydronium ion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6" name="disociation_of_water_molecule" descr=""/>
          <p:cNvPicPr/>
          <p:nvPr/>
        </p:nvPicPr>
        <p:blipFill>
          <a:blip r:embed="rId1"/>
          <a:stretch/>
        </p:blipFill>
        <p:spPr>
          <a:xfrm>
            <a:off x="6095880" y="2590920"/>
            <a:ext cx="26863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Acids and Bas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ne of the most important aspects of a living system is the degree of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cidity or alkalinit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9" name="acids" descr=""/>
          <p:cNvPicPr/>
          <p:nvPr/>
        </p:nvPicPr>
        <p:blipFill>
          <a:blip r:embed="rId1"/>
          <a:stretch/>
        </p:blipFill>
        <p:spPr>
          <a:xfrm>
            <a:off x="2624040" y="3429000"/>
            <a:ext cx="38959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H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3857760" cy="27637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Acids</a:t>
            </a:r>
            <a:r>
              <a:rPr b="0" lang="en-US" sz="36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Number of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hydronium ions in solutions is greate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than the number of hydroxide 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726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Cl 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H</a:t>
            </a:r>
            <a:r>
              <a:rPr b="1" lang="en-US" sz="2900" spc="-1" strike="noStrike" baseline="30000">
                <a:solidFill>
                  <a:srgbClr val="5b5249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+ Cl</a:t>
            </a:r>
            <a:r>
              <a:rPr b="1" lang="en-US" sz="2900" spc="-1" strike="noStrike" baseline="30000">
                <a:solidFill>
                  <a:srgbClr val="5b5249"/>
                </a:solidFill>
                <a:latin typeface="Comic Sans MS"/>
              </a:rPr>
              <a:t>-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Bas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Number of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hydroxide ions in solution is greate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than the number of hydronium 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726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NaOH 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Na</a:t>
            </a:r>
            <a:r>
              <a:rPr b="1" lang="en-US" sz="2900" spc="-1" strike="noStrike" baseline="30000">
                <a:solidFill>
                  <a:srgbClr val="5b5249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+ OH</a:t>
            </a:r>
            <a:r>
              <a:rPr b="1" lang="en-US" sz="2900" spc="-1" strike="noStrike" baseline="30000">
                <a:solidFill>
                  <a:srgbClr val="5b5249"/>
                </a:solidFill>
                <a:latin typeface="Comic Sans MS"/>
              </a:rPr>
              <a:t>-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5" name="PropAcidBase" descr=""/>
          <p:cNvPicPr/>
          <p:nvPr/>
        </p:nvPicPr>
        <p:blipFill>
          <a:blip r:embed="rId1"/>
          <a:stretch/>
        </p:blipFill>
        <p:spPr>
          <a:xfrm>
            <a:off x="3124080" y="4191120"/>
            <a:ext cx="37339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H scale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019400" cy="3125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pH  Scal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3200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logarithmic scale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for comparing the relative concentrations of hydronium ions and hydroxide ions in a s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ranges from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0 to 14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4343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af2d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Each pH is 10X stronger than nex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f2d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e.g. ph 1 is 10 times stronger than ph 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2-2" descr=""/>
          <p:cNvPicPr/>
          <p:nvPr/>
        </p:nvPicPr>
        <p:blipFill>
          <a:blip r:embed="rId1"/>
          <a:stretch/>
        </p:blipFill>
        <p:spPr>
          <a:xfrm>
            <a:off x="5867280" y="2666880"/>
            <a:ext cx="3019680" cy="28576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Atom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518184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implest particle of an element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that retains all the properties of that ele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roperties of atom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determine the structure and properties of the matter they compo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ur understanding of the structure of atoms based on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cientific models,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not observ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lowe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the pH the stronger 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ci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highe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the pH the stronger the ba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pH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7.0 is neutr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1" name="household_bases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3581280" cy="3205440"/>
          </a:xfrm>
          <a:prstGeom prst="rect">
            <a:avLst/>
          </a:prstGeom>
          <a:ln w="0">
            <a:noFill/>
          </a:ln>
        </p:spPr>
      </p:pic>
      <p:pic>
        <p:nvPicPr>
          <p:cNvPr id="212" name="household_acids" descr=""/>
          <p:cNvPicPr/>
          <p:nvPr/>
        </p:nvPicPr>
        <p:blipFill>
          <a:blip r:embed="rId2"/>
          <a:stretch/>
        </p:blipFill>
        <p:spPr>
          <a:xfrm>
            <a:off x="1600200" y="3048120"/>
            <a:ext cx="29624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buffered system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638440" cy="30002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Buffer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ontrol of pH is very importa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ost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nzymes function only within a very narrow p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ontrol is accomplished with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buffers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ade by the bod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Buffers keep a neutral pH (pH 7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buffered blood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114800" cy="3305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41911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Buffer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neutralize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small amounts of either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n acid or base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added to a s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omplex buffering system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maintain the pH value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of your body’s many fluids at normal and safe level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arts of atom" descr=""/>
          <p:cNvPicPr/>
          <p:nvPr/>
        </p:nvPicPr>
        <p:blipFill>
          <a:blip r:embed="rId1"/>
          <a:stretch/>
        </p:blipFill>
        <p:spPr>
          <a:xfrm>
            <a:off x="4772160" y="2514600"/>
            <a:ext cx="4371840" cy="3191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The Nucleu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Central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c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onsists of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ositive charged protons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nd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 neutral neutr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Positively charg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ontains most of 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mass of the ato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3666960" cy="2666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The Proton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ll atoms of a given element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have 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ame number of prot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Number of proton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called 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tomic numb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Number of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roton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balanced by an equal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number of negatively charg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lectr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The Neutron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number varie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slightly among atoms of the same ele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Different number of neutrons produce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isotope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of the same ele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carbon isotopes" descr=""/>
          <p:cNvPicPr/>
          <p:nvPr/>
        </p:nvPicPr>
        <p:blipFill>
          <a:blip r:embed="rId1"/>
          <a:stretch/>
        </p:blipFill>
        <p:spPr>
          <a:xfrm>
            <a:off x="1676520" y="3886200"/>
            <a:ext cx="64198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Atomic Ma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Protons &amp; neutrons are found in the </a:t>
            </a:r>
            <a:r>
              <a:rPr b="0" lang="en-US" sz="3200" spc="-1" strike="noStrike">
                <a:solidFill>
                  <a:srgbClr val="af2d2d"/>
                </a:solidFill>
                <a:latin typeface="Comic Sans MS"/>
              </a:rPr>
              <a:t>nucleus </a:t>
            </a: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of an ato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Protons and neutrons each have a mass of </a:t>
            </a:r>
            <a:r>
              <a:rPr b="0" lang="en-US" sz="3200" spc="-1" strike="noStrike">
                <a:solidFill>
                  <a:srgbClr val="af2d2d"/>
                </a:solidFill>
                <a:latin typeface="Comic Sans MS"/>
              </a:rPr>
              <a:t>1 amu (atomic mass uni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af2d2d"/>
                </a:solidFill>
                <a:latin typeface="Comic Sans MS"/>
              </a:rPr>
              <a:t>atomic mass</a:t>
            </a: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 of an atom is found by adding the number of protons &amp; neutrons in an ato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7T22:05:10Z</dcterms:created>
  <dc:creator>Steve</dc:creator>
  <dc:description/>
  <dc:language>en-US</dc:language>
  <cp:lastModifiedBy>nbdoe</cp:lastModifiedBy>
  <cp:lastPrinted>2006-09-20T08:28:18Z</cp:lastPrinted>
  <dcterms:modified xsi:type="dcterms:W3CDTF">2007-02-21T17:46:18Z</dcterms:modified>
  <cp:revision>34</cp:revision>
  <dc:subject/>
  <dc:title>CHEMISTRY – Chapter 2</dc:title>
</cp:coreProperties>
</file>